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152-6749-4C82-90B5-F4202112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95E-2A1E-4827-BE18-BBF628EF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290-D94A-4BE6-8259-19E2A2E6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FFF-18F9-4724-81A4-E7E1403C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9FD3F-C352-45AE-A5D2-1D1096A8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5248C-E5C3-40E2-B0D7-174BC84C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B51E9-71EF-4294-9A1B-ADED72EB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79256-D5CB-4231-B025-C77439B3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61CD0-B2E7-4BB8-9F9E-064BDA5C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30444-A698-40A5-B5F0-1D193829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B4E08-1FBF-4E73-B42B-379EA2B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E35-E65E-44A7-9163-13856C85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CE41A-BEC4-4A09-817D-B953DF50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A820F-6AF9-4F41-91A6-B780B04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DD94A-6327-40F9-8C07-1EB60F8E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EDFC2-F6AF-4FFD-B915-0650A95E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A6B77-EEA0-490F-8FF0-348B444F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5FE0-794B-4694-AE1B-2B58A12F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C62C-984F-40E4-927A-A4F83321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1610-F5F2-494A-9916-A0AF0434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8D8A3-134D-46D5-8AE4-8B08EDD8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B4E6-C11E-42E5-8C3C-FC57D081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400-4F4A-4302-A55F-FFF95543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29B3-C31B-47E1-AEB2-5157A1C0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A288-7282-445D-A907-76A7D1C7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3876-F9C9-45BC-9FE8-6BDDDBD1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8DA2-EA54-4355-B88F-F78BEB59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DC15-F8F1-453F-86AA-8371526F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B02A-2647-4A6D-A165-F0B965F1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9372-B127-47FE-941B-987B2DE6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93CF7-22BA-435D-9184-A7DA6DC5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45909F-4CE1-46BE-8CC7-9E9E9A05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59572-4716-4C86-9235-690E7DB1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1BD-265E-47FD-B9D4-EC0F2DE0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6D29D-C522-4581-95E9-63F2C895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30377-D052-49B2-92AB-76715D64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83F98-2B03-4018-B576-1F3B26D1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5FAC4-F378-459C-BD2E-F9AB7FEB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7AC9B-CE97-4C61-9E4A-312BDD3A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DABD1-FB72-4230-8DE1-8C9DC52A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562658-8862-4F77-9E32-618394D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E43C2-B311-4EBC-8A83-E600AACB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53661-2D05-4954-A6AE-F3D21D9B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89B-039F-4BEC-A366-76071625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E75-ADEC-42E4-89C1-3D2DAF74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56D-CF46-486C-B680-1E050746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DEF-B14F-4A6C-B42B-D954D7AB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697-16A4-4147-AFAD-2C72E7C5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8950-C0F4-445A-9177-41639807A29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84C2-A506-465A-A879-D6B6C8F91FD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405-FFD8-4DD9-8594-AB7D45A52F4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496D-2E69-4011-A730-1DA0F4300E1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0" y="3700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Identify the methods Americans used to cope with the Depress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016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chnology that kept the American people not only informed, but also entertain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isten to baseball gam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ou Gehrig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Joe DiMaggio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orse rac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abiscuit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any “shows” started on the radio: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ittle Orphan Anni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War of the World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http://www.reminisce.com/wp-content/uploads/2011/09/MitchellRadioStory.jpg"/>
          <p:cNvPicPr/>
          <p:nvPr/>
        </p:nvPicPr>
        <p:blipFill>
          <a:blip r:embed="rId2"/>
          <a:stretch/>
        </p:blipFill>
        <p:spPr>
          <a:xfrm>
            <a:off x="4267080" y="2209680"/>
            <a:ext cx="426744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dio shows that had a continuing stor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ppealed to the woman of the 1930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Green Horne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Lone Rang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https://ephemeralnewyork.files.wordpress.com/2010/04/dailynewsradioguide.jpg?w=450&amp;h=241"/>
          <p:cNvPicPr/>
          <p:nvPr/>
        </p:nvPicPr>
        <p:blipFill>
          <a:blip r:embed="rId2"/>
          <a:stretch/>
        </p:blipFill>
        <p:spPr>
          <a:xfrm>
            <a:off x="1676520" y="3352680"/>
            <a:ext cx="5994360" cy="321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Vintage Radio"/>
          <p:cNvPicPr/>
          <p:nvPr/>
        </p:nvPicPr>
        <p:blipFill>
          <a:blip r:embed="rId3"/>
          <a:stretch/>
        </p:blipFill>
        <p:spPr>
          <a:xfrm rot="856800">
            <a:off x="6073560" y="472680"/>
            <a:ext cx="2904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http://4.bp.blogspot.com/_AitGIGPUGkQ/TAfOhgIksWI/AAAAAAAAEPs/0BJrpid2sM0/s1600/swpost37a.jpg"/>
          <p:cNvPicPr/>
          <p:nvPr/>
        </p:nvPicPr>
        <p:blipFill>
          <a:blip r:embed="rId1"/>
          <a:stretch/>
        </p:blipFill>
        <p:spPr>
          <a:xfrm rot="1147200">
            <a:off x="7120080" y="153720"/>
            <a:ext cx="1885680" cy="2843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The Wizard of Oz (1939) Poster"/>
          <p:cNvPicPr/>
          <p:nvPr/>
        </p:nvPicPr>
        <p:blipFill>
          <a:blip r:embed="rId2"/>
          <a:stretch/>
        </p:blipFill>
        <p:spPr>
          <a:xfrm rot="20620800">
            <a:off x="316080" y="212400"/>
            <a:ext cx="1919160" cy="2841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GoneWithTheWind"/>
          <p:cNvPicPr/>
          <p:nvPr/>
        </p:nvPicPr>
        <p:blipFill>
          <a:blip r:embed="rId3"/>
          <a:stretch/>
        </p:blipFill>
        <p:spPr>
          <a:xfrm>
            <a:off x="228600" y="3836880"/>
            <a:ext cx="1924200" cy="2857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133360" y="1143000"/>
            <a:ext cx="56386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other way to escape your problem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izard of Oz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now White and the Seven Dwarf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Gone with the Win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tors &amp; actresses became celebrities and household na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hirley Templ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3 Stooges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alt Disne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4"/>
          <a:stretch/>
        </p:blipFill>
        <p:spPr>
          <a:xfrm>
            <a:off x="2365200" y="-42840"/>
            <a:ext cx="370080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http://3.bp.blogspot.com/_FfVf0AjTN9M/SZOs_TiAmzI/AAAAAAAACq0/MkVXiMs5In4/s400/movietheater.jpg"/>
          <p:cNvPicPr/>
          <p:nvPr/>
        </p:nvPicPr>
        <p:blipFill>
          <a:blip r:embed="rId5"/>
          <a:stretch/>
        </p:blipFill>
        <p:spPr>
          <a:xfrm>
            <a:off x="5105520" y="3962520"/>
            <a:ext cx="3905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-7632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lped to relax people from their financial troub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rother, Can You Spare Me A Dime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e’re in the Money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457200" y="-3049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Brother, Can You Spare a Dime? Sheet Music Preview Page 1"/>
          <p:cNvPicPr/>
          <p:nvPr/>
        </p:nvPicPr>
        <p:blipFill>
          <a:blip r:embed="rId2"/>
          <a:stretch/>
        </p:blipFill>
        <p:spPr>
          <a:xfrm rot="20687400">
            <a:off x="455400" y="2452320"/>
            <a:ext cx="3001680" cy="424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http://www.hamienet.com/Were-in-the-Money-sheet-music-page_6627-4-1.png"/>
          <p:cNvPicPr/>
          <p:nvPr/>
        </p:nvPicPr>
        <p:blipFill>
          <a:blip r:embed="rId3"/>
          <a:stretch/>
        </p:blipFill>
        <p:spPr>
          <a:xfrm rot="457800">
            <a:off x="5409720" y="1612440"/>
            <a:ext cx="36576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Stock Photo #1895-14275, A family playing a game of Monopoly, c 1930."/>
          <p:cNvPicPr/>
          <p:nvPr/>
        </p:nvPicPr>
        <p:blipFill>
          <a:blip r:embed="rId1"/>
          <a:stretch/>
        </p:blipFill>
        <p:spPr>
          <a:xfrm>
            <a:off x="3430440" y="3276720"/>
            <a:ext cx="4951440" cy="3367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nopo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rabb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Vintage 1930's Monopoly Game Pieces"/>
          <p:cNvPicPr/>
          <p:nvPr/>
        </p:nvPicPr>
        <p:blipFill>
          <a:blip r:embed="rId3"/>
          <a:stretch/>
        </p:blipFill>
        <p:spPr>
          <a:xfrm rot="20485200">
            <a:off x="280800" y="3252960"/>
            <a:ext cx="3176280" cy="2766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http://www.9label.com/images/site/288.jpg"/>
          <p:cNvPicPr/>
          <p:nvPr/>
        </p:nvPicPr>
        <p:blipFill>
          <a:blip r:embed="rId4"/>
          <a:stretch/>
        </p:blipFill>
        <p:spPr>
          <a:xfrm rot="955200">
            <a:off x="5767560" y="421920"/>
            <a:ext cx="309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The Grapes of Wrath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John Steinbeck – told about the Dust Bow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ater turned into a movie </a:t>
            </a:r>
            <a:r>
              <a:rPr b="0" lang="en-US" sz="2400" spc="-1" strike="noStrike">
                <a:solidFill>
                  <a:srgbClr val="fefac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JohnSteinbeck TheGrapesOfWrath.jpg"/>
          <p:cNvPicPr/>
          <p:nvPr/>
        </p:nvPicPr>
        <p:blipFill>
          <a:blip r:embed="rId2"/>
          <a:stretch/>
        </p:blipFill>
        <p:spPr>
          <a:xfrm>
            <a:off x="5791320" y="2209680"/>
            <a:ext cx="2743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28600" y="304920"/>
            <a:ext cx="510552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onder Brea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stess Twinkie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ott’s Apple Sau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nicker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eech-Nut Baby Food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isquick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rito Corn Chip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ootsie Pop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kippy Peanut Butt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ampbell’s Chicken Noodle Soup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oyal Crown Col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eal Lemon Lemon Jui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Kix Cerea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agu Spaghetti Sau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ay’s Potato Chip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Kraft Macaroni and Chees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estle Tollhouse Chocolate Chip Cookie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5" descr="birds eye ritz snickers nescafe kraft mac and cheese twinkies"/>
          <p:cNvPicPr/>
          <p:nvPr/>
        </p:nvPicPr>
        <p:blipFill>
          <a:blip r:embed="rId1"/>
          <a:stretch/>
        </p:blipFill>
        <p:spPr>
          <a:xfrm>
            <a:off x="3987720" y="763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9:25:08Z</dcterms:created>
  <dc:creator>LATHOMPS</dc:creator>
  <dc:description/>
  <dc:language>en-US</dc:language>
  <cp:lastModifiedBy>Vickie J. Dean</cp:lastModifiedBy>
  <dcterms:modified xsi:type="dcterms:W3CDTF">2018-03-21T18:19:03Z</dcterms:modified>
  <cp:revision>11</cp:revision>
  <dc:subject/>
  <dc:title>Great Depression in America</dc:title>
</cp:coreProperties>
</file>